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7.png" ContentType="image/png"/>
  <Override PartName="/ppt/media/image15.wmf" ContentType="image/x-wmf"/>
  <Override PartName="/ppt/media/image39.png" ContentType="image/png"/>
  <Override PartName="/ppt/media/image14.wmf" ContentType="image/x-wmf"/>
  <Override PartName="/ppt/media/image48.wmf" ContentType="image/x-wmf"/>
  <Override PartName="/ppt/media/image42.png" ContentType="image/png"/>
  <Override PartName="/ppt/media/image26.jpeg" ContentType="image/jpeg"/>
  <Override PartName="/ppt/media/image18.wmf" ContentType="image/x-wmf"/>
  <Override PartName="/ppt/media/image36.jpeg" ContentType="image/jpeg"/>
  <Override PartName="/ppt/media/image9.jpeg" ContentType="image/jpeg"/>
  <Override PartName="/ppt/media/image51.wmf" ContentType="image/x-wmf"/>
  <Override PartName="/ppt/media/image23.wmf" ContentType="image/x-wmf"/>
  <Override PartName="/ppt/media/image62.png" ContentType="image/png"/>
  <Override PartName="/ppt/media/image34.jpeg" ContentType="image/jpeg"/>
  <Override PartName="/ppt/media/image58.wmf" ContentType="image/x-wmf"/>
  <Override PartName="/ppt/media/image40.png" ContentType="image/png"/>
  <Override PartName="/ppt/media/image4.jpeg" ContentType="image/jpeg"/>
  <Override PartName="/ppt/media/image29.wmf" ContentType="image/x-wmf"/>
  <Override PartName="/ppt/media/image1.png" ContentType="image/png"/>
  <Override PartName="/ppt/media/image5.jpeg" ContentType="image/jpeg"/>
  <Override PartName="/ppt/media/image61.png" ContentType="image/png"/>
  <Override PartName="/ppt/media/image37.jpeg" ContentType="image/jpeg"/>
  <Override PartName="/ppt/media/image28.wmf" ContentType="image/x-wmf"/>
  <Override PartName="/ppt/media/image21.wmf" ContentType="image/x-wmf"/>
  <Override PartName="/ppt/media/image60.jpeg" ContentType="image/jpeg"/>
  <Override PartName="/ppt/media/image24.jpeg" ContentType="image/jpeg"/>
  <Override PartName="/ppt/media/image19.wmf" ContentType="image/x-wmf"/>
  <Override PartName="/ppt/media/image16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27.png" ContentType="image/png"/>
  <Override PartName="/ppt/media/image30.wmf" ContentType="image/x-wmf"/>
  <Override PartName="/ppt/media/image12.wmf" ContentType="image/x-wmf"/>
  <Override PartName="/ppt/media/image49.wmf" ContentType="image/x-wmf"/>
  <Override PartName="/ppt/media/image17.wmf" ContentType="image/x-wmf"/>
  <Override PartName="/ppt/media/image10.jpeg" ContentType="image/jpeg"/>
  <Override PartName="/ppt/media/image54.wmf" ContentType="image/x-wmf"/>
  <Override PartName="/ppt/media/image8.jpeg" ContentType="image/jpeg"/>
  <Override PartName="/ppt/media/image13.wmf" ContentType="image/x-wmf"/>
  <Override PartName="/ppt/media/image52.png" ContentType="image/png"/>
  <Override PartName="/ppt/media/image31.wmf" ContentType="image/x-wmf"/>
  <Override PartName="/ppt/media/image38.jpeg" ContentType="image/jpeg"/>
  <Override PartName="/ppt/media/image22.jpeg" ContentType="image/jpeg"/>
  <Override PartName="/ppt/media/image32.wmf" ContentType="image/x-wmf"/>
  <Override PartName="/ppt/media/image33.wmf" ContentType="image/x-wmf"/>
  <Override PartName="/ppt/media/image35.jpeg" ContentType="image/jpeg"/>
  <Override PartName="/ppt/media/image50.wmf" ContentType="image/x-wmf"/>
  <Override PartName="/ppt/media/image3.jpeg" ContentType="image/jpeg"/>
  <Override PartName="/ppt/media/image41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jpeg" ContentType="image/jpeg"/>
  <Override PartName="/ppt/media/image53.wmf" ContentType="image/x-wmf"/>
  <Override PartName="/ppt/media/image55.wmf" ContentType="image/x-wmf"/>
  <Override PartName="/ppt/media/image56.jpeg" ContentType="image/jpeg"/>
  <Override PartName="/ppt/media/image57.jpeg" ContentType="image/jpeg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460F-F2E3-44C1-B058-32251DCFC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Resistor-Diode-Logic, but is generally never used due to practical reasons.  The earliest computers used Resistor-Transistor-Logic (RTL) or Diode-Transistor-Logic (DTL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473E-4356-44A9-96DF-7FAE09FB3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, then test the assumption to see if it works.  Rep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D557-8558-4E9F-A13B-B9DF6E66D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power dissipated to see if it is “Destructiv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C888-D9B3-4202-96A4-2AEC1C7AD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ce simulations (as in Multisim or LTSpice) use this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D0C9-D3D2-4887-A043-D80025F75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al solutions are a classical approach when dealing with nonlinear eq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ad Line is determined by the linear portion of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80D8-3BE8-4C0E-AF33-1EE95EC50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job for a computer, not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EE0D-9740-4FE2-9562-F583D77BE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way to accurately analyze a nonlinear system when only small perturbations from the Operating Point are present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EE2F-1779-4D1F-907D-6A2144735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enclature (I will try to be consistent with the tex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5E8F-C649-46F9-9C62-E0A03A71A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is is your first exposure to a nonlinear devi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odel a diode as piecewise lin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orward biased – it is a battery (about 0.6 v) in series with a resistance (the slope of the V-I curv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verse biased it is a small constant current source (up to the reverse breakdown voltage = Zen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n reverse breakdown again modeled as a battery (The Zener voltage) in series with a small resistance as in the forward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DA0B-903F-4E0C-A9C8-6DC900C8F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great voltage regulator, but is instru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5C31-65FA-4E12-A46C-0ADBBE2D7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“shunt” regulator (shunts excess current from going through the lo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calculate the percentage of regulation – (Percent output change)/(Percent input change) times 100 of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048A-7593-4EA8-A5A3-D01A3121E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mewhat better way to built a shunt regulator.  The diode is used in reverse b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A762-336D-4C1C-9F8C-5254129F8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s indicate a “full-wave” rectif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C137-D9AB-4F5B-9805-57E39C1D9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Cathode” is marked on the diode by a stripe near that ter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E735-3AC2-407E-A2BF-9997270F0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buy Bridge Rectifier modules at Radio Sh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4B4A-601C-4BDF-9B62-8349A486A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you need to be careful to control groun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F861-BC81-41EF-8831-C0404C431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ripple, not rem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14B1-51D8-48B5-AD5F-47BB65485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place transforms are introduced in both the Differential Equations math course and the second Circuits course.  They are heavily used in the Signals and Systems and Feedback Control cour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280B-DBFB-4248-9592-4B27410E4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urse there is always some l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2316-4235-4B28-9654-5A937D9E0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steady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ode conducts when the input voltage is above the capacitor voltage and the capacitor charges up to the peak voltage of the sinus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input voltage is below the capacitor voltage, the capacitor discharges due to the load current.  The discharge is approximately linear if the ripple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3785-C312-47BA-9A83-02B7FCCA9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Where does the OpAmp get its p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BB45-0CB7-45C4-B1E8-6B33AF3A9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is a symmetric lim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EBCC-FAD0-40DF-9AA3-65D2FD945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lways have a limiter in a system whether or not it is desir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563B-9986-4928-9401-47B3477C1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restore the DC value to any desired amount by connecting the diode to a voltage sou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A522-5516-4B32-BCC3-10AAEDBFD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s the ripple period of a half wave rectif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E43D-2FA0-4892-91DA-8774F69FE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BB0C5-CE2E-4C74-B24B-ACDE54EB4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C951C-6045-493D-A6A2-1B6C6C605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5AC9-5C2D-42FA-A075-96221F36D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CE63-5A37-4686-8482-506C38696F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AF93C-C5B6-4C9E-98D6-CC2CAD189B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0F44B-D683-49FF-BB67-2673A134B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671F-9588-4A5D-B4C6-7EE10F8B7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776C-2E4F-406C-931B-CCC2C6E81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28B9-0430-45ED-9AD4-53CE440B3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FBDDF-6A81-4BDE-9970-076B10290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2F26-FBD3-4646-8BBF-FEA34FB84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834D-7682-486B-AA8A-C120188EF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83" descr="other logo for powerpoint"/>
          <p:cNvPicPr/>
          <p:nvPr/>
        </p:nvPicPr>
        <p:blipFill>
          <a:blip r:embed="rId2"/>
          <a:stretch/>
        </p:blipFill>
        <p:spPr>
          <a:xfrm>
            <a:off x="1219320" y="2819520"/>
            <a:ext cx="212076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13C9-709D-4DB3-B368-54B6BCA7C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4" descr="oxford logo4"/>
          <p:cNvPicPr/>
          <p:nvPr/>
        </p:nvPicPr>
        <p:blipFill>
          <a:blip r:embed="rId3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5" descr="book cover2"/>
          <p:cNvPicPr/>
          <p:nvPr/>
        </p:nvPicPr>
        <p:blipFill>
          <a:blip r:embed="rId4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96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208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Calibri"/>
              </a:rPr>
              <a:t>Chapter #4: </a:t>
            </a:r>
            <a:r>
              <a:rPr b="0" lang="en-US" sz="6000" spc="-1" strike="noStrike">
                <a:solidFill>
                  <a:srgbClr val="3333ff"/>
                </a:solidFill>
                <a:latin typeface="Calibri"/>
              </a:rPr>
              <a:t>Diodes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4.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od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724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the circuit of Figure 4.4.  A source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wi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eak amplitude of 24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employed to charge 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dc-batt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(a):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the fraction of each cycle during which the diode condu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(b):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peak value of diode current and maximum reverse-bias voltage that appears across the dio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5060880" y="1335240"/>
            <a:ext cx="3702240" cy="4303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4952880" y="577548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and Waveforms for Example 4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yond a certain value of reverse voltage (that depends on the diode itself), breakdown occurs and current increases rapidly with a small corresponding increase in vol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odes designed to operate in the breakdown region are called zener diodes.  They are employed in the design of voltage regulators whose function is to provide a constant dc voltage that varies little with variations in power supply voltage and / or load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1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nother Application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ode Logic Gat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y diodes be used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reate logic gat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amples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D / OR gat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shown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Refer to next sl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se04F05"/>
          <p:cNvPicPr/>
          <p:nvPr/>
        </p:nvPicPr>
        <p:blipFill>
          <a:blip r:embed="rId1"/>
          <a:stretch/>
        </p:blipFill>
        <p:spPr>
          <a:xfrm>
            <a:off x="4572000" y="2057400"/>
            <a:ext cx="4302000" cy="2511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4572000" y="480060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5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ode logic gates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gate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gate (in a positive-logic syste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se04F05"/>
          <p:cNvPicPr/>
          <p:nvPr/>
        </p:nvPicPr>
        <p:blipFill>
          <a:blip r:embed="rId1"/>
          <a:stretch/>
        </p:blipFill>
        <p:spPr>
          <a:xfrm>
            <a:off x="914400" y="2581200"/>
            <a:ext cx="7848720" cy="458172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>
            <a:off x="1371600" y="2666880"/>
            <a:ext cx="198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28600" y="38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R G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800600" y="38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D G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3520" y="1523880"/>
            <a:ext cx="3733560" cy="92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F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5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diod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will conduc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= 5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52280" y="5883120"/>
            <a:ext cx="289584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F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ny diode conduct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5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800600" y="1523880"/>
            <a:ext cx="3733920" cy="92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F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0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diod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will conduc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0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5486040" y="4572000"/>
            <a:ext cx="198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581280" y="4572000"/>
            <a:ext cx="609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+ 5V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848720" y="3352680"/>
            <a:ext cx="609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+ 5V 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4572000" y="0"/>
            <a:ext cx="0" cy="723888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267080" y="3048120"/>
            <a:ext cx="289584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F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ll diodes block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5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4.2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Diod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72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fficulties are associated with multi-di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ircui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i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nnot be solved without knowledge of diodes’ statuse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Yet, statuses are dependent on the s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 rot="5400000">
            <a:off x="6762960" y="3978720"/>
            <a:ext cx="408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igure 4.4: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ircuit and Waveforms for Example 4.1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6" descr="se04F06"/>
          <p:cNvPicPr/>
          <p:nvPr/>
        </p:nvPicPr>
        <p:blipFill>
          <a:blip r:embed="rId1"/>
          <a:stretch/>
        </p:blipFill>
        <p:spPr>
          <a:xfrm>
            <a:off x="4800600" y="2057400"/>
            <a:ext cx="4086360" cy="2933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4569480" y="5334120"/>
            <a:ext cx="45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6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s for Example 4.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48320" y="228600"/>
            <a:ext cx="42670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o apply nodal / mesh techniques, one must have knowledge of all component impedan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10"/>
          <p:cNvSpPr/>
          <p:nvPr/>
        </p:nvSpPr>
        <p:spPr>
          <a:xfrm flipH="1" flipV="1">
            <a:off x="5486400" y="3657600"/>
            <a:ext cx="1447920" cy="2666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724280" y="5867280"/>
            <a:ext cx="4267440" cy="92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F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&lt; 0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D1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0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ohm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LSE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D1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open circ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4.2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Diod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does one solve these circui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e must use the following step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)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ssume the status of all di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)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solve via mesh / nodal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)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check for coh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4.2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Diod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does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eck for coher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must ask the following question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calculated voltages across all “assumed conducting” diodes forward-bias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the calculated currents through all “assumed blocking” diodes zer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does one do, if the solution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 cohe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e mus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ange one or more of these assump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olve as well as check for coherence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7162920" y="914400"/>
            <a:ext cx="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809880" y="228600"/>
            <a:ext cx="51055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f answer to either of these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then the solution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hysically realizabl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rminal Characteri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f Junction Diod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st common implemen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 diode utilizes pn j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-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urve consists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ree characteristic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bias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erse bias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akdown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&lt; 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se04F08"/>
          <p:cNvPicPr/>
          <p:nvPr/>
        </p:nvPicPr>
        <p:blipFill>
          <a:blip r:embed="rId1"/>
          <a:stretch/>
        </p:blipFill>
        <p:spPr>
          <a:xfrm>
            <a:off x="4572000" y="2092320"/>
            <a:ext cx="4340160" cy="3481560"/>
          </a:xfrm>
          <a:prstGeom prst="rect">
            <a:avLst/>
          </a:prstGeom>
          <a:ln w="0">
            <a:noFill/>
          </a:ln>
        </p:spPr>
      </p:pic>
      <p:sp>
        <p:nvSpPr>
          <p:cNvPr id="151" name="Line 11"/>
          <p:cNvSpPr/>
          <p:nvPr/>
        </p:nvSpPr>
        <p:spPr>
          <a:xfrm>
            <a:off x="5486400" y="685800"/>
            <a:ext cx="1295280" cy="304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724280" y="152280"/>
            <a:ext cx="4267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scontinuity caused by differences in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12"/>
          <p:cNvSpPr/>
          <p:nvPr/>
        </p:nvSpPr>
        <p:spPr>
          <a:xfrm>
            <a:off x="8229600" y="2057400"/>
            <a:ext cx="685800" cy="3505320"/>
          </a:xfrm>
          <a:prstGeom prst="ellipse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6858000" y="2057400"/>
            <a:ext cx="1371600" cy="3505320"/>
          </a:xfrm>
          <a:prstGeom prst="ellipse">
            <a:avLst/>
          </a:prstGeom>
          <a:solidFill>
            <a:srgbClr val="3333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14"/>
          <p:cNvSpPr/>
          <p:nvPr/>
        </p:nvSpPr>
        <p:spPr>
          <a:xfrm>
            <a:off x="5486400" y="2057400"/>
            <a:ext cx="1371600" cy="3505320"/>
          </a:xfrm>
          <a:prstGeom prst="ellipse">
            <a:avLst/>
          </a:prstGeom>
          <a:solidFill>
            <a:srgbClr val="ff993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2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ward-Bias Reg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ward-bias reg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operation is entered whe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gt; 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I-V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relationsh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closely approximated by equations to r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4802040" y="1488960"/>
          <a:ext cx="4113360" cy="48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2040" y="1488960"/>
                    <a:ext cx="4113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Line 9"/>
          <p:cNvSpPr/>
          <p:nvPr/>
        </p:nvSpPr>
        <p:spPr>
          <a:xfrm>
            <a:off x="2133720" y="6019920"/>
            <a:ext cx="3352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52280" y="5638680"/>
            <a:ext cx="426744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(4.3) is a simplification suitable for large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2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ward-Bias Reg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tion (4.3) may b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versed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yield (4.4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relationship applies over as many a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ven decades of cur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952880" y="2540160"/>
          <a:ext cx="37386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540160"/>
                    <a:ext cx="37386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2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ward-Bi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relativ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ffect of current flow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forward biasing voltag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r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x change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effects 6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nge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Object 7"/>
          <p:cNvGraphicFramePr/>
          <p:nvPr/>
        </p:nvGraphicFramePr>
        <p:xfrm>
          <a:off x="4853160" y="304920"/>
          <a:ext cx="3985920" cy="63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3160" y="304920"/>
                    <a:ext cx="398592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IS CHAPTER WE WILL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haracteristics of the ideal dio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how to analyze and design circuits containing multiple ideal diodes together with resistors and dc sources to realize useful and interesting nonlinear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etails of the i-v characterist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junction diode (which was derived in Chapter 3) and how to use it to analyze diode circuits operating in the various bias regions: forward, reverse, and break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imple but effective model of the diode i-v characteristic in the forward direction: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nstant-voltage-drop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2.1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ward-Bi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ut-in volt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voltage, below which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nimal curr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ximately 0.5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fully conducting reg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region in whic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i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pproximately equal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we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0.6 and 0.8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7" descr="se04F08"/>
          <p:cNvPicPr/>
          <p:nvPr/>
        </p:nvPicPr>
        <p:blipFill>
          <a:blip r:embed="rId1"/>
          <a:stretch/>
        </p:blipFill>
        <p:spPr>
          <a:xfrm>
            <a:off x="4572000" y="2092320"/>
            <a:ext cx="4340160" cy="3481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4"/>
          <p:cNvSpPr/>
          <p:nvPr/>
        </p:nvSpPr>
        <p:spPr>
          <a:xfrm>
            <a:off x="7848720" y="2057400"/>
            <a:ext cx="457200" cy="3505320"/>
          </a:xfrm>
          <a:prstGeom prst="rect">
            <a:avLst/>
          </a:prstGeom>
          <a:solidFill>
            <a:srgbClr val="008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19"/>
          <p:cNvSpPr/>
          <p:nvPr/>
        </p:nvSpPr>
        <p:spPr>
          <a:xfrm flipV="1">
            <a:off x="8077320" y="55623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724280" y="6095880"/>
            <a:ext cx="4191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ully conducting re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4.3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 to textbook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2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verse-Bias Reg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4305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verse-bias region of op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entered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-V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relationship,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negative voltages with |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&g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2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s closely approximated by equations to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Object 7"/>
          <p:cNvGraphicFramePr/>
          <p:nvPr/>
        </p:nvGraphicFramePr>
        <p:xfrm>
          <a:off x="5715000" y="1219320"/>
          <a:ext cx="2595600" cy="48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219320"/>
                    <a:ext cx="2595600" cy="48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Line 9"/>
          <p:cNvSpPr/>
          <p:nvPr/>
        </p:nvSpPr>
        <p:spPr>
          <a:xfrm>
            <a:off x="3352680" y="5334120"/>
            <a:ext cx="22860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2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verse-Bias Reg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“real” diode exhibits reverse-bias current, although small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uch larger than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S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s.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part of this reverse current is attributed to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leakage eff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2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Breakdown Reg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reakdown reg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operation is entered whe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ZK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Zener-Knee Voltage (</a:t>
            </a:r>
            <a:r>
              <a:rPr b="1" i="1" lang="en-US" sz="3200" spc="-1" strike="noStrike">
                <a:solidFill>
                  <a:srgbClr val="3333ff"/>
                </a:solidFill>
                <a:latin typeface="Calibri"/>
              </a:rPr>
              <a:t>V</a:t>
            </a:r>
            <a:r>
              <a:rPr b="1" i="1" lang="en-US" sz="3200" spc="-1" strike="noStrike" baseline="-25000">
                <a:solidFill>
                  <a:srgbClr val="3333ff"/>
                </a:solidFill>
                <a:latin typeface="Calibri"/>
              </a:rPr>
              <a:t>ZK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normally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n-destru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61016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7" descr="se04F08"/>
          <p:cNvPicPr/>
          <p:nvPr/>
        </p:nvPicPr>
        <p:blipFill>
          <a:blip r:embed="rId1"/>
          <a:stretch/>
        </p:blipFill>
        <p:spPr>
          <a:xfrm>
            <a:off x="4572000" y="2092320"/>
            <a:ext cx="4340160" cy="34815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4572000" y="2057400"/>
            <a:ext cx="914400" cy="3505320"/>
          </a:xfrm>
          <a:prstGeom prst="rect">
            <a:avLst/>
          </a:prstGeom>
          <a:solidFill>
            <a:srgbClr val="008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8"/>
          <p:cNvSpPr/>
          <p:nvPr/>
        </p:nvSpPr>
        <p:spPr>
          <a:xfrm flipV="1">
            <a:off x="5029200" y="55623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724280" y="6095880"/>
            <a:ext cx="41911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reakdown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6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7" descr="se04F08"/>
          <p:cNvPicPr/>
          <p:nvPr/>
        </p:nvPicPr>
        <p:blipFill>
          <a:blip r:embed="rId1"/>
          <a:stretch/>
        </p:blipFill>
        <p:spPr>
          <a:xfrm>
            <a:off x="533520" y="882720"/>
            <a:ext cx="7162560" cy="5746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6"/>
          <p:cNvSpPr/>
          <p:nvPr/>
        </p:nvSpPr>
        <p:spPr>
          <a:xfrm>
            <a:off x="5257800" y="914400"/>
            <a:ext cx="3429000" cy="5715000"/>
          </a:xfrm>
          <a:prstGeom prst="rect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3886200" y="914400"/>
            <a:ext cx="1371600" cy="5715000"/>
          </a:xfrm>
          <a:prstGeom prst="rect">
            <a:avLst/>
          </a:prstGeom>
          <a:solidFill>
            <a:srgbClr val="008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2057400" y="914400"/>
            <a:ext cx="1828800" cy="5715000"/>
          </a:xfrm>
          <a:prstGeom prst="rect">
            <a:avLst/>
          </a:prstGeom>
          <a:solidFill>
            <a:srgbClr val="3333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533520" y="914400"/>
            <a:ext cx="1523880" cy="5715000"/>
          </a:xfrm>
          <a:prstGeom prst="rect">
            <a:avLst/>
          </a:prstGeom>
          <a:solidFill>
            <a:srgbClr val="d6009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Object 6"/>
          <p:cNvGraphicFramePr/>
          <p:nvPr/>
        </p:nvGraphicFramePr>
        <p:xfrm>
          <a:off x="2417760" y="990720"/>
          <a:ext cx="1087560" cy="60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7760" y="990720"/>
                    <a:ext cx="108756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20"/>
          <p:cNvGraphicFramePr/>
          <p:nvPr/>
        </p:nvGraphicFramePr>
        <p:xfrm>
          <a:off x="609480" y="990720"/>
          <a:ext cx="1343160" cy="61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2" name="Object 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990720"/>
                    <a:ext cx="134316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23"/>
          <p:cNvGraphicFramePr/>
          <p:nvPr/>
        </p:nvGraphicFramePr>
        <p:xfrm>
          <a:off x="6148440" y="985680"/>
          <a:ext cx="1827000" cy="690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4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48440" y="985680"/>
                    <a:ext cx="182700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Line 9"/>
          <p:cNvSpPr/>
          <p:nvPr/>
        </p:nvSpPr>
        <p:spPr>
          <a:xfrm>
            <a:off x="2057400" y="914400"/>
            <a:ext cx="0" cy="571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886200" y="914400"/>
            <a:ext cx="0" cy="571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5257800" y="914400"/>
            <a:ext cx="0" cy="571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12"/>
          <p:cNvSpPr/>
          <p:nvPr/>
        </p:nvSpPr>
        <p:spPr>
          <a:xfrm rot="16200000">
            <a:off x="1131120" y="5650200"/>
            <a:ext cx="12952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 -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Z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13"/>
          <p:cNvSpPr/>
          <p:nvPr/>
        </p:nvSpPr>
        <p:spPr>
          <a:xfrm rot="16200000">
            <a:off x="2959920" y="5650200"/>
            <a:ext cx="12952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 -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14"/>
          <p:cNvSpPr/>
          <p:nvPr/>
        </p:nvSpPr>
        <p:spPr>
          <a:xfrm rot="16200000">
            <a:off x="4331520" y="5650200"/>
            <a:ext cx="12952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32"/>
          <p:cNvSpPr/>
          <p:nvPr/>
        </p:nvSpPr>
        <p:spPr>
          <a:xfrm>
            <a:off x="2057400" y="457200"/>
            <a:ext cx="6629400" cy="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Object 29"/>
          <p:cNvGraphicFramePr/>
          <p:nvPr/>
        </p:nvGraphicFramePr>
        <p:xfrm>
          <a:off x="3314880" y="112680"/>
          <a:ext cx="2476440" cy="649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3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14880" y="112680"/>
                    <a:ext cx="247644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40388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deling the Diode Forward Characteristic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evious slides define a robust set of diode mod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coming slides, however, discus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mplified diode mode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tter suited for use in circuit analy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ponential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nstant voltage-drop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deal diod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ll-signal (linearization)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Exponenti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exponential diod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ffic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employ in circuit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to nonlinear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3124080" y="4648320"/>
          <a:ext cx="2880000" cy="120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648320"/>
                    <a:ext cx="288000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Exponenti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ol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circuit to r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@ 0.7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methods exis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graphical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terativ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6" descr="se04F10"/>
          <p:cNvPicPr/>
          <p:nvPr/>
        </p:nvPicPr>
        <p:blipFill>
          <a:blip r:embed="rId1"/>
          <a:stretch/>
        </p:blipFill>
        <p:spPr>
          <a:xfrm>
            <a:off x="5105520" y="1752480"/>
            <a:ext cx="3209760" cy="18147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4648320" y="365760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10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imple circuit used to illustrate the analysis of circuits in which the diode is forward conduc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Object 8"/>
          <p:cNvGraphicFramePr/>
          <p:nvPr/>
        </p:nvGraphicFramePr>
        <p:xfrm>
          <a:off x="5334120" y="5553000"/>
          <a:ext cx="2952720" cy="92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5553000"/>
                    <a:ext cx="295272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phical Analysis Using Exponenti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lot the relationship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(4.6) and (4.7) on single 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nd intersec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tw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load 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diode characteristic intersect at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operating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6" descr="se04F11"/>
          <p:cNvPicPr/>
          <p:nvPr/>
        </p:nvPicPr>
        <p:blipFill>
          <a:blip r:embed="rId1"/>
          <a:stretch/>
        </p:blipFill>
        <p:spPr>
          <a:xfrm>
            <a:off x="4572000" y="2057400"/>
            <a:ext cx="4302000" cy="25351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4572000" y="4724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1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al analysis of the circuit in Fig. 4.10 using the exponential diode mo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4876920" y="2438280"/>
            <a:ext cx="335268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6324480" y="2666880"/>
            <a:ext cx="53352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6400800" y="3276720"/>
            <a:ext cx="3049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4876920" y="2438280"/>
            <a:ext cx="335268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Line 12"/>
          <p:cNvSpPr/>
          <p:nvPr/>
        </p:nvSpPr>
        <p:spPr>
          <a:xfrm flipV="1">
            <a:off x="6324480" y="2666880"/>
            <a:ext cx="53352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13"/>
          <p:cNvSpPr/>
          <p:nvPr/>
        </p:nvSpPr>
        <p:spPr>
          <a:xfrm>
            <a:off x="6400800" y="3276720"/>
            <a:ext cx="3049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owerful technique for the application and modeling of the diode (and in later chapters, transistors): dc-biasing the diode and modeling its operation for small signals around the dc-operating point by means of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mall-signal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 of a string of forward-biased diodes and of diodes operating in the breakdown region (zener diodes), to provide constant dc voltages 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oltage regula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cation of the diode in the design of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ctifier circui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convert ac voltages to dc as needed for powering electronic equi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other practical and important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phical Analysis Using Exponenti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Pr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u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/c of visual n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act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Complex Analy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e lines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6" descr="se04F11"/>
          <p:cNvPicPr/>
          <p:nvPr/>
        </p:nvPicPr>
        <p:blipFill>
          <a:blip r:embed="rId1"/>
          <a:stretch/>
        </p:blipFill>
        <p:spPr>
          <a:xfrm>
            <a:off x="4572000" y="2057400"/>
            <a:ext cx="4302000" cy="25351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4572000" y="4724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1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al analysis of the circuit in Fig. 4.10 using the exponential diode mo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erative Analysis Using Exponential Method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rt wi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itial gu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dal / mesh analy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sol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3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e exponential model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pdat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peat these ste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ti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on convergence, the new and old values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t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erative Analysis Using Exponential Method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Pro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Prec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Intu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Practical for Complex Analy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0+ iter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y be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deling the Diode Forward Characteristic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can one analyze these diode-based circuit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e efficient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nd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mpl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example is assume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oltage drop across the diode is cons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7" descr="se04F08"/>
          <p:cNvPicPr/>
          <p:nvPr/>
        </p:nvPicPr>
        <p:blipFill>
          <a:blip r:embed="rId1"/>
          <a:stretch/>
        </p:blipFill>
        <p:spPr>
          <a:xfrm>
            <a:off x="4572000" y="2092320"/>
            <a:ext cx="4340160" cy="348156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9"/>
          <p:cNvSpPr/>
          <p:nvPr/>
        </p:nvSpPr>
        <p:spPr>
          <a:xfrm>
            <a:off x="6858000" y="2286000"/>
            <a:ext cx="1371600" cy="1523880"/>
          </a:xfrm>
          <a:custGeom>
            <a:avLst/>
            <a:gdLst/>
            <a:ahLst/>
            <a:rect l="l" t="t" r="r" b="b"/>
            <a:pathLst>
              <a:path w="864" h="960">
                <a:moveTo>
                  <a:pt x="0" y="960"/>
                </a:moveTo>
                <a:lnTo>
                  <a:pt x="864" y="960"/>
                </a:lnTo>
                <a:lnTo>
                  <a:pt x="86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Line 10"/>
          <p:cNvSpPr/>
          <p:nvPr/>
        </p:nvSpPr>
        <p:spPr>
          <a:xfrm flipV="1">
            <a:off x="4114800" y="3962160"/>
            <a:ext cx="35053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stant Voltage-Drop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nstant voltage-drop diode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sumes that the slop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vertica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@ 0.7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example 4.4 solution change if CVDM is us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262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4.3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6" descr="se04F12"/>
          <p:cNvPicPr/>
          <p:nvPr/>
        </p:nvPicPr>
        <p:blipFill>
          <a:blip r:embed="rId1"/>
          <a:stretch/>
        </p:blipFill>
        <p:spPr>
          <a:xfrm>
            <a:off x="4572000" y="1905120"/>
            <a:ext cx="4362480" cy="33289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4"/>
          <p:cNvSpPr/>
          <p:nvPr/>
        </p:nvSpPr>
        <p:spPr>
          <a:xfrm>
            <a:off x="4572000" y="5257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1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the diode constant-voltage-drop model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dea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ode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deal diode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sumes that the slop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vertica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@ 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example 4.4 solution change if ideal model is us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262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14" descr="se04F01"/>
          <p:cNvPicPr/>
          <p:nvPr/>
        </p:nvPicPr>
        <p:blipFill>
          <a:blip r:embed="rId1"/>
          <a:stretch/>
        </p:blipFill>
        <p:spPr>
          <a:xfrm>
            <a:off x="4648320" y="2327400"/>
            <a:ext cx="4190760" cy="315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1.1: Current-Volt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acteristic </a:t>
            </a:r>
            <a:r>
              <a:rPr b="0" lang="en-US" sz="2400" spc="-1" strike="noStrike">
                <a:solidFill>
                  <a:srgbClr val="777777"/>
                </a:solidFill>
                <a:latin typeface="Calibri"/>
              </a:rPr>
              <a:t>of the Ideal Diod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alibri"/>
              </a:rPr>
              <a:t>ideal diode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most fundament nonlinear circuit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terminal device with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ircuit symbo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es i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wo mod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ward and reverse b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4572000" y="55627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4.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14" descr="se04F01"/>
          <p:cNvPicPr/>
          <p:nvPr/>
        </p:nvPicPr>
        <p:blipFill>
          <a:blip r:embed="rId1"/>
          <a:stretch/>
        </p:blipFill>
        <p:spPr>
          <a:xfrm>
            <a:off x="1447920" y="1981080"/>
            <a:ext cx="6172200" cy="46548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8"/>
          <p:cNvSpPr/>
          <p:nvPr/>
        </p:nvSpPr>
        <p:spPr>
          <a:xfrm>
            <a:off x="457200" y="2209680"/>
            <a:ext cx="2362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evice symbol with two n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6019920" y="1022400"/>
            <a:ext cx="2361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de #1: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forward bias = short c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3124080" y="1022400"/>
            <a:ext cx="23623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de #2: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reverse bias = open c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n 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these models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onential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ow vol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less complex circu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emphasis on accuracy over practic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tant voltage-drop mo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edium voltages = 0.7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more complex circu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emphasis on practicality over accu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deal diode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igh voltages &gt;&gt; 0.7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very complex circu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cases where a difference in voltage by 0.7</a:t>
            </a:r>
            <a:r>
              <a:rPr b="0" i="1" lang="en-US" sz="2400" spc="-1" strike="noStrike">
                <a:solidFill>
                  <a:srgbClr val="008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is neglig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mall-signal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is is nex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small-signal diod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ode is modeled a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ariable resis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se value is defined via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ineariz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exponential mo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ias po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fined by constant voltage drop mo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7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the small-signal diode model defin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tal instantaneous circuit is divided into steady-state and time varying components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may be analyzed separately and solved via algeb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teady-state, diode represented as CVD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ime-varying, diode represented as resis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Line 5"/>
          <p:cNvSpPr/>
          <p:nvPr/>
        </p:nvSpPr>
        <p:spPr>
          <a:xfrm>
            <a:off x="7543800" y="1066680"/>
            <a:ext cx="0" cy="358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4572000" y="228600"/>
            <a:ext cx="43434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ither of these circuits employ the exponential model – simplifying the “solving” pro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1.1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rrent-Volta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racteristic </a:t>
            </a:r>
            <a:r>
              <a:rPr b="1" lang="en-US" sz="2800" spc="-1" strike="noStrike">
                <a:solidFill>
                  <a:srgbClr val="777777"/>
                </a:solidFill>
                <a:latin typeface="Calibri"/>
              </a:rPr>
              <a:t>of the Ideal Diod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deal di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most fundament nonlinear circuit e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terminal de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ircuit symb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wn to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es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m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and o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4" descr="se04F01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3274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4572000" y="54705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ode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4" descr="se04F14"/>
          <p:cNvPicPr/>
          <p:nvPr/>
        </p:nvPicPr>
        <p:blipFill>
          <a:blip r:embed="rId1"/>
          <a:stretch/>
        </p:blipFill>
        <p:spPr>
          <a:xfrm>
            <a:off x="1969920" y="380880"/>
            <a:ext cx="3364200" cy="5410440"/>
          </a:xfrm>
          <a:prstGeom prst="rect">
            <a:avLst/>
          </a:prstGeom>
          <a:ln w="0">
            <a:noFill/>
          </a:ln>
        </p:spPr>
      </p:pic>
      <p:sp>
        <p:nvSpPr>
          <p:cNvPr id="306" name="Line 28"/>
          <p:cNvSpPr/>
          <p:nvPr/>
        </p:nvSpPr>
        <p:spPr>
          <a:xfrm flipH="1">
            <a:off x="4723920" y="533520"/>
            <a:ext cx="35053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7467480" y="228600"/>
            <a:ext cx="1447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V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75960" y="2057400"/>
            <a:ext cx="8762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228600" y="5943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14: 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for Example 4.5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for calculating the dc operating point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-signal equivalent circ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7"/>
          <p:cNvSpPr/>
          <p:nvPr/>
        </p:nvSpPr>
        <p:spPr>
          <a:xfrm>
            <a:off x="1371600" y="685800"/>
            <a:ext cx="762120" cy="2057400"/>
          </a:xfrm>
          <a:custGeom>
            <a:avLst/>
            <a:gdLst/>
            <a:ahLst/>
            <a:rect l="l" t="t" r="r" b="b"/>
            <a:pathLst>
              <a:path w="288" h="1296">
                <a:moveTo>
                  <a:pt x="288" y="0"/>
                </a:moveTo>
                <a:lnTo>
                  <a:pt x="0" y="0"/>
                </a:lnTo>
                <a:lnTo>
                  <a:pt x="0" y="1296"/>
                </a:lnTo>
                <a:lnTo>
                  <a:pt x="288" y="12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1143000" y="990720"/>
            <a:ext cx="457200" cy="457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1143000" y="1981080"/>
            <a:ext cx="457200" cy="457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1143000" y="1066680"/>
            <a:ext cx="4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1143000" y="2057400"/>
            <a:ext cx="4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12"/>
          <p:cNvSpPr/>
          <p:nvPr/>
        </p:nvSpPr>
        <p:spPr>
          <a:xfrm>
            <a:off x="3809880" y="685800"/>
            <a:ext cx="762120" cy="2057400"/>
          </a:xfrm>
          <a:custGeom>
            <a:avLst/>
            <a:gdLst/>
            <a:ahLst/>
            <a:rect l="l" t="t" r="r" b="b"/>
            <a:pathLst>
              <a:path w="288" h="1296">
                <a:moveTo>
                  <a:pt x="288" y="0"/>
                </a:moveTo>
                <a:lnTo>
                  <a:pt x="0" y="0"/>
                </a:lnTo>
                <a:lnTo>
                  <a:pt x="0" y="1296"/>
                </a:lnTo>
                <a:lnTo>
                  <a:pt x="288" y="12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3581280" y="990720"/>
            <a:ext cx="457200" cy="457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3581280" y="1066680"/>
            <a:ext cx="4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18"/>
          <p:cNvSpPr/>
          <p:nvPr/>
        </p:nvSpPr>
        <p:spPr>
          <a:xfrm>
            <a:off x="2286000" y="3886200"/>
            <a:ext cx="7621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19"/>
          <p:cNvSpPr/>
          <p:nvPr/>
        </p:nvSpPr>
        <p:spPr>
          <a:xfrm flipV="1">
            <a:off x="2743200" y="388620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514600" y="4267080"/>
            <a:ext cx="457200" cy="457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2514600" y="4343400"/>
            <a:ext cx="4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304920" y="1065240"/>
            <a:ext cx="2361960" cy="1432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otal Instantaneous Solution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</a:t>
            </a:r>
            <a:r>
              <a:rPr b="0" i="1" lang="en-US" sz="2800" spc="-1" strike="noStrike" baseline="-25000">
                <a:solidFill>
                  <a:srgbClr val="ffff99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3352680" y="1066680"/>
            <a:ext cx="2362320" cy="1432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eady-State Solution     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</a:t>
            </a:r>
            <a:r>
              <a:rPr b="0" i="1" lang="en-US" sz="2800" spc="-1" strike="noStrike" baseline="-25000">
                <a:solidFill>
                  <a:srgbClr val="ffff99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1828800" y="3886200"/>
            <a:ext cx="2362320" cy="1432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ime-Varying Solution      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</a:t>
            </a:r>
            <a:r>
              <a:rPr b="0" i="1" lang="en-US" sz="2800" spc="-1" strike="noStrike" baseline="-25000">
                <a:solidFill>
                  <a:srgbClr val="ffff99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24"/>
          <p:cNvSpPr/>
          <p:nvPr/>
        </p:nvSpPr>
        <p:spPr>
          <a:xfrm>
            <a:off x="2819520" y="135576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25"/>
          <p:cNvSpPr/>
          <p:nvPr/>
        </p:nvSpPr>
        <p:spPr>
          <a:xfrm>
            <a:off x="5867280" y="135576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50416 -0.41111 E">
                                      <p:cBhvr>
                                        <p:cTn id="186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601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the small-signal diode model defin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sider the conceptual circuit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gure 4.13(a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C voltag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applied to di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o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rbitrary time-varying signa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uper-im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5943600" y="2685960"/>
            <a:ext cx="2705040" cy="27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533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C onl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upper-case w/ upper-case subscri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ime-varying onl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lower-case w/ lower-case subscri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otal instantaneou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lower-case w/ upper-case subscri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C + time-va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5676840" y="2685960"/>
            <a:ext cx="2705040" cy="27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C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in (4.8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3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total instantaneous volt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s composed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4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total instantaneous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s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0" name="Object 4"/>
          <p:cNvGraphicFramePr/>
          <p:nvPr/>
        </p:nvGraphicFramePr>
        <p:xfrm>
          <a:off x="5018040" y="2208240"/>
          <a:ext cx="359244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8040" y="2208240"/>
                    <a:ext cx="359244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Line 9"/>
          <p:cNvSpPr/>
          <p:nvPr/>
        </p:nvSpPr>
        <p:spPr>
          <a:xfrm>
            <a:off x="3429000" y="2438280"/>
            <a:ext cx="1447920" cy="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10"/>
          <p:cNvSpPr/>
          <p:nvPr/>
        </p:nvSpPr>
        <p:spPr>
          <a:xfrm>
            <a:off x="3429000" y="2438280"/>
            <a:ext cx="144792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Line 11"/>
          <p:cNvSpPr/>
          <p:nvPr/>
        </p:nvSpPr>
        <p:spPr>
          <a:xfrm flipV="1">
            <a:off x="3657600" y="3047760"/>
            <a:ext cx="1295280" cy="7596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12"/>
          <p:cNvSpPr/>
          <p:nvPr/>
        </p:nvSpPr>
        <p:spPr>
          <a:xfrm flipV="1">
            <a:off x="3657600" y="3047760"/>
            <a:ext cx="1295280" cy="759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Line 13"/>
          <p:cNvSpPr/>
          <p:nvPr/>
        </p:nvSpPr>
        <p:spPr>
          <a:xfrm>
            <a:off x="4419720" y="5029200"/>
            <a:ext cx="533160" cy="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Line 14"/>
          <p:cNvSpPr/>
          <p:nvPr/>
        </p:nvSpPr>
        <p:spPr>
          <a:xfrm>
            <a:off x="4419720" y="5029200"/>
            <a:ext cx="53316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define (4.1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function of bo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6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pl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is exponential in tw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7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define total instant curr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erms of DC componen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nd time-varying voltag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4648320" y="2362320"/>
          <a:ext cx="4195800" cy="28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62320"/>
                    <a:ext cx="419580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Line 9"/>
          <p:cNvSpPr/>
          <p:nvPr/>
        </p:nvSpPr>
        <p:spPr>
          <a:xfrm>
            <a:off x="4191120" y="2286000"/>
            <a:ext cx="457200" cy="38088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4191120" y="2286000"/>
            <a:ext cx="457200" cy="38088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3200400" y="3581280"/>
            <a:ext cx="1371600" cy="30492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3200400" y="3581280"/>
            <a:ext cx="1371600" cy="30492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4114800" y="4876920"/>
            <a:ext cx="457200" cy="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4114800" y="4876920"/>
            <a:ext cx="45720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657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8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ower series expan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(4.1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9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&lt; 1, certain terms may b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gle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4114800" y="2209680"/>
          <a:ext cx="47815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209680"/>
                    <a:ext cx="47815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Line 8"/>
          <p:cNvSpPr/>
          <p:nvPr/>
        </p:nvSpPr>
        <p:spPr>
          <a:xfrm flipV="1">
            <a:off x="3505320" y="2666880"/>
            <a:ext cx="533160" cy="15264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Line 9"/>
          <p:cNvSpPr/>
          <p:nvPr/>
        </p:nvSpPr>
        <p:spPr>
          <a:xfrm flipV="1">
            <a:off x="3505320" y="2666880"/>
            <a:ext cx="533160" cy="15264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Line 10"/>
          <p:cNvSpPr/>
          <p:nvPr/>
        </p:nvSpPr>
        <p:spPr>
          <a:xfrm>
            <a:off x="3200400" y="3733920"/>
            <a:ext cx="914400" cy="182880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Line 11"/>
          <p:cNvSpPr/>
          <p:nvPr/>
        </p:nvSpPr>
        <p:spPr>
          <a:xfrm>
            <a:off x="3200400" y="3733920"/>
            <a:ext cx="914400" cy="182880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533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mall signal approxi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wn to righ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exponential diod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instant curren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-signal curren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-signal resistan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id for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plitude (not peak to peak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1" name="Object 4"/>
          <p:cNvGraphicFramePr/>
          <p:nvPr/>
        </p:nvGraphicFramePr>
        <p:xfrm>
          <a:off x="5867280" y="1371600"/>
          <a:ext cx="2860920" cy="44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371600"/>
                    <a:ext cx="286092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5"/>
          <p:cNvSpPr/>
          <p:nvPr/>
        </p:nvSpPr>
        <p:spPr>
          <a:xfrm>
            <a:off x="5867280" y="1371600"/>
            <a:ext cx="2895840" cy="16002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10"/>
          <p:cNvSpPr/>
          <p:nvPr/>
        </p:nvSpPr>
        <p:spPr>
          <a:xfrm flipV="1">
            <a:off x="4952880" y="3505320"/>
            <a:ext cx="83844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11"/>
          <p:cNvSpPr/>
          <p:nvPr/>
        </p:nvSpPr>
        <p:spPr>
          <a:xfrm flipV="1">
            <a:off x="4876920" y="4114440"/>
            <a:ext cx="91440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5334120" y="4800600"/>
            <a:ext cx="5331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ethod may be used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pproximate any fun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round an operating point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0" name="Object 4"/>
          <p:cNvGraphicFramePr/>
          <p:nvPr/>
        </p:nvGraphicFramePr>
        <p:xfrm>
          <a:off x="1998720" y="4038480"/>
          <a:ext cx="516420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8720" y="4038480"/>
                    <a:ext cx="516420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7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mall-signal res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steady-state curren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nd thermal voltag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s be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is approximation is only valid for small-signal voltage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5" name="Object 4"/>
          <p:cNvGraphicFramePr/>
          <p:nvPr/>
        </p:nvGraphicFramePr>
        <p:xfrm>
          <a:off x="3886200" y="4724280"/>
          <a:ext cx="1258920" cy="11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724280"/>
                    <a:ext cx="125892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4.5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-Signal Mod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the circuit shown in Figure 4.14(a) for the case in whic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wer supp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has a dc value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which is super-imposed a 6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H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nusoid of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eak amplitude (known as 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upply ripp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lculate both amplitude of the sine-wave signal observed across the di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eak) = 2.68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 diode to have 0.7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rop at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40388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1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urrent-Voltag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catho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gative terminal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current fl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ano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positive terminal of diode,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current fl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-current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behavior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iecewise line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ated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nline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yond this r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4" descr="se04F14"/>
          <p:cNvPicPr/>
          <p:nvPr/>
        </p:nvPicPr>
        <p:blipFill>
          <a:blip r:embed="rId1"/>
          <a:stretch/>
        </p:blipFill>
        <p:spPr>
          <a:xfrm>
            <a:off x="2884320" y="380880"/>
            <a:ext cx="3364200" cy="54104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2"/>
          <p:cNvSpPr/>
          <p:nvPr/>
        </p:nvSpPr>
        <p:spPr>
          <a:xfrm>
            <a:off x="228600" y="5943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14: 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for Example 4.5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for calculating the dc operating point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-signal equivalent circ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3.8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Use of Diode Forward Drop in Voltage Regul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voltage regula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it whose voltage output remains stable in spite of changes in supply and lo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haracteristic of the diode facilitates voltage regul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pproximatel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nstant voltage drop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ross it (0.7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4.6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ode-Based Voltage Regula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579132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circuit shown in Figure 4.15. 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ring of three diod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to provide a constant voltage of 2.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the change in this regulated voltage caused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+/- 1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nge in supply voltage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nection of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ad resis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4" descr="se04F15"/>
          <p:cNvPicPr/>
          <p:nvPr/>
        </p:nvPicPr>
        <p:blipFill>
          <a:blip r:embed="rId1"/>
          <a:stretch/>
        </p:blipFill>
        <p:spPr>
          <a:xfrm>
            <a:off x="6400800" y="2133720"/>
            <a:ext cx="2327400" cy="24382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2"/>
          <p:cNvSpPr/>
          <p:nvPr/>
        </p:nvSpPr>
        <p:spPr>
          <a:xfrm>
            <a:off x="6172200" y="48769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15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for Example 4.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4648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tion in the Reverse Breakdown Region – Zener Diod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 certain circumstances, diodes may be intentionally used in the reverse breakdown reg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referred to as 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Zener Diod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Rectifier Circui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3056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important application of diode is 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rect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device whic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nverts alternating current (AC) to direct current (D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important application of rectifier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c power sup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4" descr="se04F20"/>
          <p:cNvPicPr/>
          <p:nvPr/>
        </p:nvPicPr>
        <p:blipFill>
          <a:blip r:embed="rId1"/>
          <a:stretch/>
        </p:blipFill>
        <p:spPr>
          <a:xfrm>
            <a:off x="4572000" y="3267000"/>
            <a:ext cx="4305240" cy="12286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2"/>
          <p:cNvSpPr/>
          <p:nvPr/>
        </p:nvSpPr>
        <p:spPr>
          <a:xfrm>
            <a:off x="4648320" y="48006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0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ck diagram of a dc power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152280" y="28195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4" descr="se04F20"/>
          <p:cNvPicPr/>
          <p:nvPr/>
        </p:nvPicPr>
        <p:blipFill>
          <a:blip r:embed="rId1"/>
          <a:stretch/>
        </p:blipFill>
        <p:spPr>
          <a:xfrm>
            <a:off x="152280" y="3962520"/>
            <a:ext cx="8763120" cy="25002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228600" y="63086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0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ck diagram of a dc power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80880" y="212760"/>
            <a:ext cx="52578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ep #1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increase / decrease rms magnitude of AC wave via power transfor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143000" y="974880"/>
            <a:ext cx="52578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ep #2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convert full-wave AC to half-wave DC (still time-varying and period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905120" y="1736640"/>
            <a:ext cx="52578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ep #3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mploy low-pass filter to reduce wave amplitude by &gt; 9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2743200" y="2514600"/>
            <a:ext cx="52578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ep #4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mploy voltage regulator to eliminate rip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3505320" y="3276720"/>
            <a:ext cx="52578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ep #5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upply dc load                                                    </a:t>
            </a:r>
            <a:r>
              <a:rPr b="0" lang="en-US" sz="2000" spc="-1" strike="noStrike">
                <a:solidFill>
                  <a:srgbClr val="ffff99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609480" y="990720"/>
            <a:ext cx="0" cy="32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Line 13"/>
          <p:cNvSpPr/>
          <p:nvPr/>
        </p:nvSpPr>
        <p:spPr>
          <a:xfrm>
            <a:off x="8229600" y="40384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Line 14"/>
          <p:cNvSpPr/>
          <p:nvPr/>
        </p:nvSpPr>
        <p:spPr>
          <a:xfrm>
            <a:off x="6477120" y="32767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Line 15"/>
          <p:cNvSpPr/>
          <p:nvPr/>
        </p:nvSpPr>
        <p:spPr>
          <a:xfrm>
            <a:off x="4724280" y="2514600"/>
            <a:ext cx="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Line 16"/>
          <p:cNvSpPr/>
          <p:nvPr/>
        </p:nvSpPr>
        <p:spPr>
          <a:xfrm>
            <a:off x="2971800" y="17524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8640" y="151920"/>
            <a:ext cx="34970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Half-Wav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half-wave rect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 utilizes only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nat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alf-cyc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input sinuso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 voltage drop diode model is employ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Picture 4" descr="se04F21"/>
          <p:cNvPicPr/>
          <p:nvPr/>
        </p:nvPicPr>
        <p:blipFill>
          <a:blip r:embed="rId1"/>
          <a:stretch/>
        </p:blipFill>
        <p:spPr>
          <a:xfrm>
            <a:off x="4572000" y="1565280"/>
            <a:ext cx="4419720" cy="40734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2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1: 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f-wave rectifi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fer characteristic of the rectifier circui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and output wavef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Half-Wav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current-handling cap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what is maximum forward current diode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pected to condu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peak inverse voltage (PIV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what is maximum reverse voltage it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pec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lock w/o breakdow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8640" y="151920"/>
            <a:ext cx="34970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Half-Wav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exponential model?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possible to use the diode exponential model in describing rectifier operation; however, this requires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too much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small inputs?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ardless of the model employed, one should note that the rectifie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ill not operate proper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n input voltage is small (&lt; 1</a:t>
            </a:r>
            <a:r>
              <a:rPr b="0" i="1" lang="en-US" sz="3200" spc="-1" strike="noStrike">
                <a:solidFill>
                  <a:srgbClr val="808080"/>
                </a:solidFill>
                <a:latin typeface="Calibri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cases require a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precision rect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ll-Wav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ull-wave rectifi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ffer from half-w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utilizes both halves of the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otential is shown to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4" descr="se04F22"/>
          <p:cNvPicPr/>
          <p:nvPr/>
        </p:nvPicPr>
        <p:blipFill>
          <a:blip r:embed="rId1"/>
          <a:stretch/>
        </p:blipFill>
        <p:spPr>
          <a:xfrm>
            <a:off x="4572000" y="2092320"/>
            <a:ext cx="4419720" cy="28605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4648320" y="51055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ll-wave rectifier utilizing a transformer with a center-tapped secondary win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1.1: Current-Volt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acteristic </a:t>
            </a:r>
            <a:r>
              <a:rPr b="0" lang="en-US" sz="2400" spc="-1" strike="noStrike">
                <a:solidFill>
                  <a:srgbClr val="777777"/>
                </a:solidFill>
                <a:latin typeface="Calibri"/>
              </a:rPr>
              <a:t>of the Ideal Diod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alibri"/>
              </a:rPr>
              <a:t>ideal diode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most fundament nonlinear circuit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terminal device with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ircuit symbo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es i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wo mod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ward and reverse b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0" y="55627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4.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4" descr="se04F01"/>
          <p:cNvPicPr/>
          <p:nvPr/>
        </p:nvPicPr>
        <p:blipFill>
          <a:blip r:embed="rId1"/>
          <a:stretch/>
        </p:blipFill>
        <p:spPr>
          <a:xfrm>
            <a:off x="1447920" y="1981080"/>
            <a:ext cx="6172200" cy="4654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457200" y="2209680"/>
            <a:ext cx="2362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evice symbol with two n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019920" y="1022400"/>
            <a:ext cx="2361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de #1: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forward bias = short c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124080" y="1022400"/>
            <a:ext cx="23623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de #2: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reverse bias = open c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4" descr="se04F22"/>
          <p:cNvPicPr/>
          <p:nvPr/>
        </p:nvPicPr>
        <p:blipFill>
          <a:blip r:embed="rId1"/>
          <a:stretch/>
        </p:blipFill>
        <p:spPr>
          <a:xfrm>
            <a:off x="1752480" y="1406520"/>
            <a:ext cx="5715000" cy="3699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2"/>
          <p:cNvSpPr/>
          <p:nvPr/>
        </p:nvSpPr>
        <p:spPr>
          <a:xfrm>
            <a:off x="228600" y="51814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ll-wave rectifier utilizing a transformer with a center-tapped secondary winding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fer characteristi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ing a constant-voltage-drop model for the diodes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and output wavefor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28600" y="152280"/>
            <a:ext cx="8686800" cy="100764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The key here is center-tapping of the transformer, allowing “reversal” of certain current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1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5" descr=""/>
          <p:cNvPicPr/>
          <p:nvPr/>
        </p:nvPicPr>
        <p:blipFill>
          <a:blip r:embed="rId1"/>
          <a:stretch/>
        </p:blipFill>
        <p:spPr>
          <a:xfrm>
            <a:off x="228600" y="1430280"/>
            <a:ext cx="8686800" cy="4970520"/>
          </a:xfrm>
          <a:prstGeom prst="rect">
            <a:avLst/>
          </a:prstGeom>
          <a:ln w="0">
            <a:noFill/>
          </a:ln>
        </p:spPr>
      </p:pic>
      <p:sp>
        <p:nvSpPr>
          <p:cNvPr id="458" name="Line 6"/>
          <p:cNvSpPr/>
          <p:nvPr/>
        </p:nvSpPr>
        <p:spPr>
          <a:xfrm>
            <a:off x="762120" y="2116080"/>
            <a:ext cx="0" cy="35053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Oval 7"/>
          <p:cNvSpPr/>
          <p:nvPr/>
        </p:nvSpPr>
        <p:spPr>
          <a:xfrm>
            <a:off x="228600" y="3411360"/>
            <a:ext cx="1066680" cy="106704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Group 8"/>
          <p:cNvGrpSpPr/>
          <p:nvPr/>
        </p:nvGrpSpPr>
        <p:grpSpPr>
          <a:xfrm>
            <a:off x="609480" y="3564000"/>
            <a:ext cx="274680" cy="274680"/>
            <a:chOff x="609480" y="3564000"/>
            <a:chExt cx="274680" cy="274680"/>
          </a:xfrm>
        </p:grpSpPr>
        <p:sp>
          <p:nvSpPr>
            <p:cNvPr id="461" name="Line 9"/>
            <p:cNvSpPr/>
            <p:nvPr/>
          </p:nvSpPr>
          <p:spPr>
            <a:xfrm>
              <a:off x="746640" y="3564000"/>
              <a:ext cx="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Line 10"/>
            <p:cNvSpPr/>
            <p:nvPr/>
          </p:nvSpPr>
          <p:spPr>
            <a:xfrm>
              <a:off x="609480" y="3701160"/>
              <a:ext cx="2746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3" name="Line 11"/>
          <p:cNvSpPr/>
          <p:nvPr/>
        </p:nvSpPr>
        <p:spPr>
          <a:xfrm>
            <a:off x="609480" y="4189320"/>
            <a:ext cx="274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685800" y="32590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457200" y="212760"/>
            <a:ext cx="8229600" cy="113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When instantaneous source voltage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ositive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conducts while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block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Line 14"/>
          <p:cNvSpPr/>
          <p:nvPr/>
        </p:nvSpPr>
        <p:spPr>
          <a:xfrm>
            <a:off x="7620120" y="228600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15"/>
          <p:cNvSpPr/>
          <p:nvPr/>
        </p:nvSpPr>
        <p:spPr>
          <a:xfrm>
            <a:off x="4572000" y="5257800"/>
            <a:ext cx="609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14451E-006 L -0.00365 -0.18404 L 0.7 -0.18635 L 0.7 0.06775 L 0.2783 0.06775 L 0.27639 0.3244 L -0.00365 0.3244 L 3.33333E-006 5.14451E-006 Z">
                                      <p:cBhvr>
                                        <p:cTn id="295" dur="5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oter Placeholder 1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5" descr=""/>
          <p:cNvPicPr/>
          <p:nvPr/>
        </p:nvPicPr>
        <p:blipFill>
          <a:blip r:embed="rId1"/>
          <a:stretch/>
        </p:blipFill>
        <p:spPr>
          <a:xfrm>
            <a:off x="228600" y="1430280"/>
            <a:ext cx="8686800" cy="4970520"/>
          </a:xfrm>
          <a:prstGeom prst="rect">
            <a:avLst/>
          </a:prstGeom>
          <a:ln w="0">
            <a:noFill/>
          </a:ln>
        </p:spPr>
      </p:pic>
      <p:sp>
        <p:nvSpPr>
          <p:cNvPr id="471" name="Line 6"/>
          <p:cNvSpPr/>
          <p:nvPr/>
        </p:nvSpPr>
        <p:spPr>
          <a:xfrm>
            <a:off x="762120" y="2116080"/>
            <a:ext cx="0" cy="35053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228600" y="3411360"/>
            <a:ext cx="1066680" cy="106704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3" name="Group 8"/>
          <p:cNvGrpSpPr/>
          <p:nvPr/>
        </p:nvGrpSpPr>
        <p:grpSpPr>
          <a:xfrm>
            <a:off x="609480" y="4068720"/>
            <a:ext cx="274680" cy="274680"/>
            <a:chOff x="609480" y="4068720"/>
            <a:chExt cx="274680" cy="274680"/>
          </a:xfrm>
        </p:grpSpPr>
        <p:sp>
          <p:nvSpPr>
            <p:cNvPr id="474" name="Line 9"/>
            <p:cNvSpPr/>
            <p:nvPr/>
          </p:nvSpPr>
          <p:spPr>
            <a:xfrm>
              <a:off x="746640" y="4068720"/>
              <a:ext cx="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Line 10"/>
            <p:cNvSpPr/>
            <p:nvPr/>
          </p:nvSpPr>
          <p:spPr>
            <a:xfrm>
              <a:off x="609480" y="4205880"/>
              <a:ext cx="2746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Line 11"/>
          <p:cNvSpPr/>
          <p:nvPr/>
        </p:nvSpPr>
        <p:spPr>
          <a:xfrm>
            <a:off x="609480" y="3657600"/>
            <a:ext cx="274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12"/>
          <p:cNvSpPr/>
          <p:nvPr/>
        </p:nvSpPr>
        <p:spPr>
          <a:xfrm>
            <a:off x="685800" y="32590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457200" y="212760"/>
            <a:ext cx="8229600" cy="113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when instantaneous source voltage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egative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conducts while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bloc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Line 14"/>
          <p:cNvSpPr/>
          <p:nvPr/>
        </p:nvSpPr>
        <p:spPr>
          <a:xfrm>
            <a:off x="7620120" y="228600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4572000" y="1828800"/>
            <a:ext cx="609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2948E-006 L -0.00174 0.31953 L 0.60538 0.32439 L 0.60173 -0.18891 L 0.70191 -0.19376 L 0.7 0.06543 L 0.28177 0.06543 L 0.28177 -0.19122 L 3.33333E-006 -0.18891 L 3.33333E-006 3.2948E-006 Z">
                                      <p:cBhvr>
                                        <p:cTn id="301" dur="5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Full-Wav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mos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mportant observation(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this oper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rection of current flowing across load never changes 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oth halves of AC wa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rectified).  The full-wave rectifier produces a mor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“energetic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aveform than half-w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I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full-wave = 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Bridg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lternative implementation of the full-wave rectifier is 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bridge rectif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n to r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5" descr=""/>
          <p:cNvPicPr/>
          <p:nvPr/>
        </p:nvPicPr>
        <p:blipFill>
          <a:blip r:embed="rId1"/>
          <a:stretch/>
        </p:blipFill>
        <p:spPr>
          <a:xfrm>
            <a:off x="4572000" y="2825640"/>
            <a:ext cx="4371840" cy="212724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2"/>
          <p:cNvSpPr/>
          <p:nvPr/>
        </p:nvSpPr>
        <p:spPr>
          <a:xfrm>
            <a:off x="4572000" y="53341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ridge rectifi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5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25040" cy="385596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"/>
          <p:cNvSpPr/>
          <p:nvPr/>
        </p:nvSpPr>
        <p:spPr>
          <a:xfrm>
            <a:off x="228600" y="6004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ridge rectifier circ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Line 7"/>
          <p:cNvSpPr/>
          <p:nvPr/>
        </p:nvSpPr>
        <p:spPr>
          <a:xfrm>
            <a:off x="1066680" y="2286000"/>
            <a:ext cx="0" cy="3124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8"/>
          <p:cNvSpPr/>
          <p:nvPr/>
        </p:nvSpPr>
        <p:spPr>
          <a:xfrm>
            <a:off x="533520" y="3352680"/>
            <a:ext cx="1066680" cy="106704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8" name="Group 9"/>
          <p:cNvGrpSpPr/>
          <p:nvPr/>
        </p:nvGrpSpPr>
        <p:grpSpPr>
          <a:xfrm>
            <a:off x="914400" y="3505320"/>
            <a:ext cx="274680" cy="274680"/>
            <a:chOff x="914400" y="3505320"/>
            <a:chExt cx="274680" cy="274680"/>
          </a:xfrm>
        </p:grpSpPr>
        <p:sp>
          <p:nvSpPr>
            <p:cNvPr id="499" name="Line 10"/>
            <p:cNvSpPr/>
            <p:nvPr/>
          </p:nvSpPr>
          <p:spPr>
            <a:xfrm>
              <a:off x="1051560" y="3505320"/>
              <a:ext cx="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Line 11"/>
            <p:cNvSpPr/>
            <p:nvPr/>
          </p:nvSpPr>
          <p:spPr>
            <a:xfrm>
              <a:off x="914400" y="3642480"/>
              <a:ext cx="2746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Line 12"/>
          <p:cNvSpPr/>
          <p:nvPr/>
        </p:nvSpPr>
        <p:spPr>
          <a:xfrm>
            <a:off x="914400" y="4130640"/>
            <a:ext cx="274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3"/>
          <p:cNvSpPr/>
          <p:nvPr/>
        </p:nvSpPr>
        <p:spPr>
          <a:xfrm>
            <a:off x="990720" y="32004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6095880" y="41911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457200" y="212760"/>
            <a:ext cx="8229600" cy="113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when instantaneous source voltage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ositive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conduct while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 and 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blo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6"/>
          <p:cNvSpPr/>
          <p:nvPr/>
        </p:nvSpPr>
        <p:spPr>
          <a:xfrm>
            <a:off x="5867280" y="2819520"/>
            <a:ext cx="609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7"/>
          <p:cNvSpPr/>
          <p:nvPr/>
        </p:nvSpPr>
        <p:spPr>
          <a:xfrm>
            <a:off x="7086600" y="4419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96296E-006 L -0.00347 -0.14259 L 0.62414 -0.14722 L 0.76216 0.08264 L 0.48282 0.08032 L 0.6224 0.30787 L -0.00173 0.30787 L -2.77778E-007 2.96296E-006 Z">
                                      <p:cBhvr>
                                        <p:cTn id="307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5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25040" cy="385596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"/>
          <p:cNvSpPr/>
          <p:nvPr/>
        </p:nvSpPr>
        <p:spPr>
          <a:xfrm>
            <a:off x="228600" y="6004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ridge rectifier circ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Line 7"/>
          <p:cNvSpPr/>
          <p:nvPr/>
        </p:nvSpPr>
        <p:spPr>
          <a:xfrm>
            <a:off x="1066680" y="2286000"/>
            <a:ext cx="0" cy="3124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Oval 8"/>
          <p:cNvSpPr/>
          <p:nvPr/>
        </p:nvSpPr>
        <p:spPr>
          <a:xfrm>
            <a:off x="533520" y="3352680"/>
            <a:ext cx="1066680" cy="106704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Group 9"/>
          <p:cNvGrpSpPr/>
          <p:nvPr/>
        </p:nvGrpSpPr>
        <p:grpSpPr>
          <a:xfrm>
            <a:off x="914400" y="3992400"/>
            <a:ext cx="274680" cy="274680"/>
            <a:chOff x="914400" y="3992400"/>
            <a:chExt cx="274680" cy="274680"/>
          </a:xfrm>
        </p:grpSpPr>
        <p:sp>
          <p:nvSpPr>
            <p:cNvPr id="516" name="Line 10"/>
            <p:cNvSpPr/>
            <p:nvPr/>
          </p:nvSpPr>
          <p:spPr>
            <a:xfrm>
              <a:off x="1051560" y="3992400"/>
              <a:ext cx="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Line 11"/>
            <p:cNvSpPr/>
            <p:nvPr/>
          </p:nvSpPr>
          <p:spPr>
            <a:xfrm>
              <a:off x="914400" y="4129560"/>
              <a:ext cx="2746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Line 12"/>
          <p:cNvSpPr/>
          <p:nvPr/>
        </p:nvSpPr>
        <p:spPr>
          <a:xfrm>
            <a:off x="914400" y="3657600"/>
            <a:ext cx="274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990720" y="32004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ine 14"/>
          <p:cNvSpPr/>
          <p:nvPr/>
        </p:nvSpPr>
        <p:spPr>
          <a:xfrm flipH="1">
            <a:off x="6095880" y="41911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 Box 15"/>
          <p:cNvSpPr/>
          <p:nvPr/>
        </p:nvSpPr>
        <p:spPr>
          <a:xfrm>
            <a:off x="457200" y="212760"/>
            <a:ext cx="8229600" cy="113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when instantaneous source voltage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ositive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conduct while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 and D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blo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16"/>
          <p:cNvSpPr/>
          <p:nvPr/>
        </p:nvSpPr>
        <p:spPr>
          <a:xfrm>
            <a:off x="3657600" y="2438280"/>
            <a:ext cx="53352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17"/>
          <p:cNvSpPr/>
          <p:nvPr/>
        </p:nvSpPr>
        <p:spPr>
          <a:xfrm>
            <a:off x="5867280" y="4343400"/>
            <a:ext cx="609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18"/>
          <p:cNvSpPr/>
          <p:nvPr/>
        </p:nvSpPr>
        <p:spPr>
          <a:xfrm>
            <a:off x="7086600" y="2819520"/>
            <a:ext cx="609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19"/>
          <p:cNvSpPr/>
          <p:nvPr/>
        </p:nvSpPr>
        <p:spPr>
          <a:xfrm>
            <a:off x="5943600" y="342900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20"/>
          <p:cNvSpPr/>
          <p:nvPr/>
        </p:nvSpPr>
        <p:spPr>
          <a:xfrm>
            <a:off x="6553080" y="3352680"/>
            <a:ext cx="99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46 L -0.00364 0.30741 L 0.62223 0.30973 L 0.76025 0.08218 L 0.47917 0.08449 L 0.62049 -0.14537 L -0.00017 -0.14305 L -0.00017 -0.00046 Z">
                                      <p:cBhvr>
                                        <p:cTn id="313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3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Bridge Rectifier (BR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ma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dvant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B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need fo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enter-tapp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nsform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ma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sadvant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es connection of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WO diod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ll reduce output volt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V =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ating nature of rectifier output make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unreliable dc supp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such, a 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filter capaci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employed to remove rip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2"/>
          <p:cNvSpPr/>
          <p:nvPr/>
        </p:nvSpPr>
        <p:spPr>
          <a:xfrm>
            <a:off x="304920" y="5486400"/>
            <a:ext cx="8534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4: 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imple circuit used to illustrate the effect of a filter capacitor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and output waveforms assuming an ideal dio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6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307040" cy="39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#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voltage is positive, diode is forward biased,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apacitor charg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#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voltage is reverse, diode is reverse-biased (blocking)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apacitor cannot dischar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#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voltage is positive, diode is forward biased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apacitor charges (maintains voltag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304920" y="6134040"/>
            <a:ext cx="85341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4 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imple circuit used to illustrate the effec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Picture 7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307040" cy="39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1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urrent-Voltag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rnal circuit should be designed to limi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urrent fl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ross conducting di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oltage acro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ing di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are shown to righ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se04F02"/>
          <p:cNvPicPr/>
          <p:nvPr/>
        </p:nvPicPr>
        <p:blipFill>
          <a:blip r:embed="rId1"/>
          <a:stretch/>
        </p:blipFill>
        <p:spPr>
          <a:xfrm>
            <a:off x="5040360" y="1066680"/>
            <a:ext cx="3494160" cy="35053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4572000" y="4648320"/>
            <a:ext cx="43434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wo modes of operation of ideal diodes and the use of an external circuit to limi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rward current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verse volt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40388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this exampl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unrealist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for an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actical appli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 converter would supply a load (which in turn provides a path for capacitor dischargin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40388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3056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at happens when 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load resis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placed in series with capacit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must now consider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scharging of capacitor across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4343400" cy="271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40388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extbook outlines how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Laplace Transfor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be used to define behavior be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4759200" y="3505320"/>
            <a:ext cx="4003920" cy="25034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5562720" y="5943600"/>
            <a:ext cx="259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ircuit state #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4572000" y="3581280"/>
            <a:ext cx="2057400" cy="23623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8" descr=""/>
          <p:cNvPicPr/>
          <p:nvPr/>
        </p:nvPicPr>
        <p:blipFill>
          <a:blip r:embed="rId2"/>
          <a:stretch/>
        </p:blipFill>
        <p:spPr>
          <a:xfrm>
            <a:off x="4768920" y="399960"/>
            <a:ext cx="3994200" cy="249552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9"/>
          <p:cNvSpPr/>
          <p:nvPr/>
        </p:nvSpPr>
        <p:spPr>
          <a:xfrm>
            <a:off x="5562720" y="2895480"/>
            <a:ext cx="259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ircuit state #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12"/>
          <p:cNvSpPr/>
          <p:nvPr/>
        </p:nvSpPr>
        <p:spPr>
          <a:xfrm>
            <a:off x="0" y="6095880"/>
            <a:ext cx="4572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Object 4"/>
          <p:cNvGraphicFramePr/>
          <p:nvPr/>
        </p:nvGraphicFramePr>
        <p:xfrm>
          <a:off x="1022400" y="4114800"/>
          <a:ext cx="2558880" cy="22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2400" y="4114800"/>
                    <a:ext cx="255888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Line 10"/>
          <p:cNvSpPr/>
          <p:nvPr/>
        </p:nvSpPr>
        <p:spPr>
          <a:xfrm flipV="1">
            <a:off x="3581280" y="2285640"/>
            <a:ext cx="144792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ine 11"/>
          <p:cNvSpPr/>
          <p:nvPr/>
        </p:nvSpPr>
        <p:spPr>
          <a:xfrm flipV="1">
            <a:off x="3505320" y="5029200"/>
            <a:ext cx="2971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6629400" y="3886200"/>
            <a:ext cx="380880" cy="3808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14"/>
          <p:cNvSpPr/>
          <p:nvPr/>
        </p:nvSpPr>
        <p:spPr>
          <a:xfrm>
            <a:off x="6629400" y="5638680"/>
            <a:ext cx="380880" cy="3812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at happens when 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load resis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placed in series with capacitor?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alyze circui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ate #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Calibri"/>
              </a:rPr>
              <a:t>When diode is forward biased and conduc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voltage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will be appli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outpu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minus 0.7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rop across di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7" name="Object 4"/>
          <p:cNvGraphicFramePr/>
          <p:nvPr/>
        </p:nvGraphicFramePr>
        <p:xfrm>
          <a:off x="5979960" y="3505320"/>
          <a:ext cx="1792440" cy="30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79960" y="3505320"/>
                    <a:ext cx="1792440" cy="30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4648320" y="136440"/>
            <a:ext cx="4267080" cy="266724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6"/>
          <p:cNvSpPr/>
          <p:nvPr/>
        </p:nvSpPr>
        <p:spPr>
          <a:xfrm>
            <a:off x="5181480" y="280368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ircuit state #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at happens when 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load resis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placed in series with capacitor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3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 output voltage for state #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Object 4"/>
          <p:cNvGraphicFramePr/>
          <p:nvPr/>
        </p:nvGraphicFramePr>
        <p:xfrm>
          <a:off x="914400" y="3819600"/>
          <a:ext cx="268776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19600"/>
                    <a:ext cx="26877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6" name="Picture 5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267080" cy="266688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6"/>
          <p:cNvSpPr/>
          <p:nvPr/>
        </p:nvSpPr>
        <p:spPr>
          <a:xfrm>
            <a:off x="4648320" y="47242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rcuit state #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at happens when 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load resis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placed in series with capacitor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3056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alyze circui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ate #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Calibri"/>
              </a:rPr>
              <a:t>When diode is blocking and capacitor is discharg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KVL and KC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is circu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–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Picture 5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267080" cy="266688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6"/>
          <p:cNvSpPr/>
          <p:nvPr/>
        </p:nvSpPr>
        <p:spPr>
          <a:xfrm>
            <a:off x="5181480" y="472428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rcuit state #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4572000" y="1905120"/>
            <a:ext cx="2057400" cy="26668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9"/>
          <p:cNvSpPr/>
          <p:nvPr/>
        </p:nvSpPr>
        <p:spPr>
          <a:xfrm>
            <a:off x="6629400" y="2438280"/>
            <a:ext cx="457200" cy="3812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10"/>
          <p:cNvSpPr/>
          <p:nvPr/>
        </p:nvSpPr>
        <p:spPr>
          <a:xfrm>
            <a:off x="6629400" y="4114800"/>
            <a:ext cx="457200" cy="3808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at happens when 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load resis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placed in series with capacitor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#6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e combination of circuit an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aplace Analy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olve f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n terms of initial condition and tim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4.5.4.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The Rectifier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1" name="Object 3"/>
          <p:cNvGraphicFramePr/>
          <p:nvPr/>
        </p:nvGraphicFramePr>
        <p:xfrm>
          <a:off x="363600" y="2057400"/>
          <a:ext cx="8418600" cy="46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2057400"/>
                    <a:ext cx="841860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Freeform 4"/>
          <p:cNvSpPr/>
          <p:nvPr/>
        </p:nvSpPr>
        <p:spPr>
          <a:xfrm>
            <a:off x="762120" y="2286000"/>
            <a:ext cx="7315200" cy="4191120"/>
          </a:xfrm>
          <a:custGeom>
            <a:avLst/>
            <a:gdLst/>
            <a:ahLst/>
            <a:rect l="l" t="t" r="r" b="b"/>
            <a:pathLst>
              <a:path w="4608" h="2640">
                <a:moveTo>
                  <a:pt x="0" y="96"/>
                </a:moveTo>
                <a:lnTo>
                  <a:pt x="0" y="2640"/>
                </a:lnTo>
                <a:lnTo>
                  <a:pt x="2304" y="96"/>
                </a:lnTo>
                <a:lnTo>
                  <a:pt x="2304" y="2640"/>
                </a:lnTo>
                <a:lnTo>
                  <a:pt x="4608" y="0"/>
                </a:lnTo>
                <a:lnTo>
                  <a:pt x="4608" y="2592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0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eak of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because the transition between state #1 and state #2 (aka. diode begins blocking) approximately a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rops below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40388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7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 output voltage for states #1 and #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4" descr=""/>
          <p:cNvPicPr/>
          <p:nvPr/>
        </p:nvPicPr>
        <p:blipFill>
          <a:blip r:embed="rId1"/>
          <a:stretch/>
        </p:blipFill>
        <p:spPr>
          <a:xfrm>
            <a:off x="4759200" y="3505320"/>
            <a:ext cx="4003920" cy="25034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5562720" y="5943600"/>
            <a:ext cx="259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ircuit state #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4572000" y="3581280"/>
            <a:ext cx="2057400" cy="23623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7" descr=""/>
          <p:cNvPicPr/>
          <p:nvPr/>
        </p:nvPicPr>
        <p:blipFill>
          <a:blip r:embed="rId2"/>
          <a:stretch/>
        </p:blipFill>
        <p:spPr>
          <a:xfrm>
            <a:off x="4768920" y="399960"/>
            <a:ext cx="3994200" cy="24955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8"/>
          <p:cNvSpPr/>
          <p:nvPr/>
        </p:nvSpPr>
        <p:spPr>
          <a:xfrm>
            <a:off x="5562720" y="2895480"/>
            <a:ext cx="259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ircuit state #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0" y="6095880"/>
            <a:ext cx="4572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6" name="Object 10"/>
          <p:cNvGraphicFramePr/>
          <p:nvPr/>
        </p:nvGraphicFramePr>
        <p:xfrm>
          <a:off x="1022400" y="4114800"/>
          <a:ext cx="2558880" cy="22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2400" y="4114800"/>
                    <a:ext cx="255888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Line 11"/>
          <p:cNvSpPr/>
          <p:nvPr/>
        </p:nvSpPr>
        <p:spPr>
          <a:xfrm flipV="1">
            <a:off x="3581280" y="2285640"/>
            <a:ext cx="144792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Line 12"/>
          <p:cNvSpPr/>
          <p:nvPr/>
        </p:nvSpPr>
        <p:spPr>
          <a:xfrm flipV="1">
            <a:off x="3505320" y="5029200"/>
            <a:ext cx="2971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13"/>
          <p:cNvSpPr/>
          <p:nvPr/>
        </p:nvSpPr>
        <p:spPr>
          <a:xfrm>
            <a:off x="6629400" y="3886200"/>
            <a:ext cx="380880" cy="3808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Rectangle 14"/>
          <p:cNvSpPr/>
          <p:nvPr/>
        </p:nvSpPr>
        <p:spPr>
          <a:xfrm>
            <a:off x="6629400" y="5638680"/>
            <a:ext cx="380880" cy="3812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1.2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 Simple Applicatio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Th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3056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undamental appl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is piecewise linear behavior is the rect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rect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it whic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nverts AC waves in to D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ideally with no lo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4343400" cy="21211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4648320" y="4724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3(a)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ctifier Circ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4" descr="se04F25"/>
          <p:cNvPicPr/>
          <p:nvPr/>
        </p:nvPicPr>
        <p:blipFill>
          <a:blip r:embed="rId1"/>
          <a:stretch/>
        </p:blipFill>
        <p:spPr>
          <a:xfrm>
            <a:off x="228600" y="304920"/>
            <a:ext cx="8697960" cy="52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Object 6"/>
          <p:cNvGraphicFramePr/>
          <p:nvPr/>
        </p:nvGraphicFramePr>
        <p:xfrm>
          <a:off x="187200" y="152280"/>
          <a:ext cx="2632320" cy="240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200" y="152280"/>
                    <a:ext cx="263232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7"/>
          <p:cNvSpPr/>
          <p:nvPr/>
        </p:nvSpPr>
        <p:spPr>
          <a:xfrm>
            <a:off x="3809880" y="304920"/>
            <a:ext cx="228600" cy="5105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6095880" y="304920"/>
            <a:ext cx="228600" cy="5105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4038480" y="304920"/>
            <a:ext cx="2057400" cy="51051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10"/>
          <p:cNvSpPr/>
          <p:nvPr/>
        </p:nvSpPr>
        <p:spPr>
          <a:xfrm>
            <a:off x="6324480" y="304920"/>
            <a:ext cx="2057400" cy="51051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11"/>
          <p:cNvSpPr/>
          <p:nvPr/>
        </p:nvSpPr>
        <p:spPr>
          <a:xfrm>
            <a:off x="228600" y="3657600"/>
            <a:ext cx="1219320" cy="17524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Line 12"/>
          <p:cNvSpPr/>
          <p:nvPr/>
        </p:nvSpPr>
        <p:spPr>
          <a:xfrm>
            <a:off x="2666880" y="914400"/>
            <a:ext cx="114300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Line 13"/>
          <p:cNvSpPr/>
          <p:nvPr/>
        </p:nvSpPr>
        <p:spPr>
          <a:xfrm>
            <a:off x="2895480" y="1905120"/>
            <a:ext cx="1143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ectangle 2"/>
          <p:cNvSpPr/>
          <p:nvPr/>
        </p:nvSpPr>
        <p:spPr>
          <a:xfrm>
            <a:off x="304920" y="5715000"/>
            <a:ext cx="85341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5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tage and Current Waveforms in the Peak Rectifier Circuit WI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gt;&gt;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diode is assumed ide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Couple of Observa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ode conducts for a brief interval 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near the peak of the input sinusoi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upplies the capacitor with charge equal to that lost during the much longer discharge interval.  The latter is approximately equal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ing an ideal diode, the diod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nduction begins at tim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t which the inpu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quals the exponentially decaying outpu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 Diod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nduction stops at tim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ly after the peak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the exact valu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determined by settling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Couple of Observa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diode off-interval,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pacitor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discharges through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causing an exponential dec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output voltag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At the end of the discharge interval, which lasts for almost the entire perio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voltage output is defined as follows –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=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peak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ripple voltag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small, the outpu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almost constant and equal to the peak of the inpu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verage output voltage may be defined as belo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4" name="Object 4"/>
          <p:cNvGraphicFramePr/>
          <p:nvPr/>
        </p:nvGraphicFramePr>
        <p:xfrm>
          <a:off x="1063800" y="5737320"/>
          <a:ext cx="693720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737320"/>
                    <a:ext cx="69372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5181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ripple volt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defin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#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gin wi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ransient respon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output during “off interval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ot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discharge inter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#3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implify using assumption th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gt;&gt;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#4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olve for ripple volta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9" name="Object 5"/>
          <p:cNvGraphicFramePr/>
          <p:nvPr/>
        </p:nvGraphicFramePr>
        <p:xfrm>
          <a:off x="5486400" y="1108080"/>
          <a:ext cx="3446640" cy="55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108080"/>
                    <a:ext cx="344664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Line 7"/>
          <p:cNvSpPr/>
          <p:nvPr/>
        </p:nvSpPr>
        <p:spPr>
          <a:xfrm flipV="1">
            <a:off x="4724280" y="1752480"/>
            <a:ext cx="762120" cy="91440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Line 8"/>
          <p:cNvSpPr/>
          <p:nvPr/>
        </p:nvSpPr>
        <p:spPr>
          <a:xfrm flipV="1">
            <a:off x="4724280" y="1752480"/>
            <a:ext cx="762120" cy="91440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Line 9"/>
          <p:cNvSpPr/>
          <p:nvPr/>
        </p:nvSpPr>
        <p:spPr>
          <a:xfrm flipV="1">
            <a:off x="4495680" y="2666520"/>
            <a:ext cx="2743200" cy="121932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Line 10"/>
          <p:cNvSpPr/>
          <p:nvPr/>
        </p:nvSpPr>
        <p:spPr>
          <a:xfrm flipV="1">
            <a:off x="4495680" y="2666520"/>
            <a:ext cx="2743200" cy="121932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Line 11"/>
          <p:cNvSpPr/>
          <p:nvPr/>
        </p:nvSpPr>
        <p:spPr>
          <a:xfrm flipV="1">
            <a:off x="3809880" y="3352680"/>
            <a:ext cx="1676520" cy="137160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Line 12"/>
          <p:cNvSpPr/>
          <p:nvPr/>
        </p:nvSpPr>
        <p:spPr>
          <a:xfrm flipV="1">
            <a:off x="3809880" y="3352680"/>
            <a:ext cx="1676520" cy="137160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Line 13"/>
          <p:cNvSpPr/>
          <p:nvPr/>
        </p:nvSpPr>
        <p:spPr>
          <a:xfrm>
            <a:off x="5029200" y="5486400"/>
            <a:ext cx="380880" cy="15228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Line 14"/>
          <p:cNvSpPr/>
          <p:nvPr/>
        </p:nvSpPr>
        <p:spPr>
          <a:xfrm>
            <a:off x="5029200" y="5486400"/>
            <a:ext cx="380880" cy="15228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8006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5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expression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ms of frequen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, as long 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capacitor discharges as constant current sour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nduction interv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fin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e following slide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2" name="Object 4"/>
          <p:cNvGraphicFramePr/>
          <p:nvPr/>
        </p:nvGraphicFramePr>
        <p:xfrm>
          <a:off x="5100480" y="2743200"/>
          <a:ext cx="36655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0480" y="2743200"/>
                    <a:ext cx="36655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Line 6"/>
          <p:cNvSpPr/>
          <p:nvPr/>
        </p:nvSpPr>
        <p:spPr>
          <a:xfrm flipV="1">
            <a:off x="6629400" y="426672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5029200" y="5638680"/>
            <a:ext cx="3809880" cy="1070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expression to define ripple voltage (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0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nduction interv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fined?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3056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sume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ode conduction stop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very close to when)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pproaches its pea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this assumption, one may 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pression to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3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olve for </a:t>
            </a: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9" name="Picture 4" descr=""/>
          <p:cNvPicPr/>
          <p:nvPr/>
        </p:nvPicPr>
        <p:blipFill>
          <a:blip r:embed="rId1"/>
          <a:stretch/>
        </p:blipFill>
        <p:spPr>
          <a:xfrm>
            <a:off x="4921200" y="685800"/>
            <a:ext cx="3765600" cy="228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0" name="Object 5"/>
          <p:cNvGraphicFramePr/>
          <p:nvPr/>
        </p:nvGraphicFramePr>
        <p:xfrm>
          <a:off x="4572000" y="3276720"/>
          <a:ext cx="4487760" cy="34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276720"/>
                    <a:ext cx="4487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Line 7"/>
          <p:cNvSpPr/>
          <p:nvPr/>
        </p:nvSpPr>
        <p:spPr>
          <a:xfrm flipH="1">
            <a:off x="8153280" y="380880"/>
            <a:ext cx="15264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7620120" y="152280"/>
            <a:ext cx="1371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Line 9"/>
          <p:cNvSpPr/>
          <p:nvPr/>
        </p:nvSpPr>
        <p:spPr>
          <a:xfrm flipV="1">
            <a:off x="3809880" y="1980720"/>
            <a:ext cx="1143000" cy="30492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Line 10"/>
          <p:cNvSpPr/>
          <p:nvPr/>
        </p:nvSpPr>
        <p:spPr>
          <a:xfrm flipV="1">
            <a:off x="3809880" y="1980720"/>
            <a:ext cx="1143000" cy="30492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Line 11"/>
          <p:cNvSpPr/>
          <p:nvPr/>
        </p:nvSpPr>
        <p:spPr>
          <a:xfrm flipV="1">
            <a:off x="3276720" y="3657600"/>
            <a:ext cx="1600200" cy="45720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Line 12"/>
          <p:cNvSpPr/>
          <p:nvPr/>
        </p:nvSpPr>
        <p:spPr>
          <a:xfrm flipV="1">
            <a:off x="3276720" y="3657600"/>
            <a:ext cx="1600200" cy="45720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Line 13"/>
          <p:cNvSpPr/>
          <p:nvPr/>
        </p:nvSpPr>
        <p:spPr>
          <a:xfrm flipV="1">
            <a:off x="3962520" y="5562720"/>
            <a:ext cx="2057400" cy="38088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Line 14"/>
          <p:cNvSpPr/>
          <p:nvPr/>
        </p:nvSpPr>
        <p:spPr>
          <a:xfrm flipV="1">
            <a:off x="3962520" y="5562720"/>
            <a:ext cx="2057400" cy="38088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mph" presetID="35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35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7" dur="5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5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5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72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eak-to-peak ripple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fin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4.2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ow is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duction interval 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fin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.3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4878360" y="1828800"/>
          <a:ext cx="365616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8360" y="1828800"/>
                    <a:ext cx="365616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6"/>
          <p:cNvGraphicFramePr/>
          <p:nvPr/>
        </p:nvGraphicFramePr>
        <p:xfrm>
          <a:off x="4902120" y="4495680"/>
          <a:ext cx="4013280" cy="15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2120" y="4495680"/>
                    <a:ext cx="401328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4114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a Filter Capaci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precision rectifi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is a device which facilitates rectification of low-voltage input wavefor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0" name="Picture 4" descr="se04F27"/>
          <p:cNvPicPr/>
          <p:nvPr/>
        </p:nvPicPr>
        <p:blipFill>
          <a:blip r:embed="rId1"/>
          <a:stretch/>
        </p:blipFill>
        <p:spPr>
          <a:xfrm>
            <a:off x="1523880" y="3429000"/>
            <a:ext cx="6096240" cy="267984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2"/>
          <p:cNvSpPr/>
          <p:nvPr/>
        </p:nvSpPr>
        <p:spPr>
          <a:xfrm>
            <a:off x="304920" y="5867280"/>
            <a:ext cx="85341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7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“Superdiode” Precision Half-Wave Rectifier and its almost-ideal transfer characterist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Limiting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mping Circui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419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limiter circu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which limits voltage outp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Picture 4" descr="se04F28"/>
          <p:cNvPicPr/>
          <p:nvPr/>
        </p:nvPicPr>
        <p:blipFill>
          <a:blip r:embed="rId1"/>
          <a:stretch/>
        </p:blipFill>
        <p:spPr>
          <a:xfrm>
            <a:off x="5181480" y="1981080"/>
            <a:ext cx="3432240" cy="325620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2"/>
          <p:cNvSpPr/>
          <p:nvPr/>
        </p:nvSpPr>
        <p:spPr>
          <a:xfrm>
            <a:off x="4648320" y="539424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28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transfer characteristic for a limiter circ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Line 6"/>
          <p:cNvSpPr/>
          <p:nvPr/>
        </p:nvSpPr>
        <p:spPr>
          <a:xfrm flipH="1">
            <a:off x="5181120" y="2494080"/>
            <a:ext cx="3429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Line 7"/>
          <p:cNvSpPr/>
          <p:nvPr/>
        </p:nvSpPr>
        <p:spPr>
          <a:xfrm flipH="1">
            <a:off x="5181120" y="4932360"/>
            <a:ext cx="3429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Limiting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mping Circui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533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assive limiter circu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ne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nline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clu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limiter operate in uni-polar man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ouble limi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e in bi-polar man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Object 4"/>
          <p:cNvGraphicFramePr/>
          <p:nvPr/>
        </p:nvGraphicFramePr>
        <p:xfrm>
          <a:off x="5410080" y="933480"/>
          <a:ext cx="343692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933480"/>
                    <a:ext cx="343692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1.2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 Simple Application 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ect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3056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ircuit is composed of diode and series resis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this circui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per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ode blocks reverse current fl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preventing negative voltage acros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4343400" cy="2121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4648320" y="4724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3(a)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ctifier Circ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Limiting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mping Circui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sof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s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hard lim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limiter circuits appli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al processing, used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vent breakdown of transisto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in various de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4" descr="se04F30"/>
          <p:cNvPicPr/>
          <p:nvPr/>
        </p:nvPicPr>
        <p:blipFill>
          <a:blip r:embed="rId1"/>
          <a:stretch/>
        </p:blipFill>
        <p:spPr>
          <a:xfrm>
            <a:off x="304920" y="3139920"/>
            <a:ext cx="4114800" cy="232740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6"/>
          <p:cNvSpPr/>
          <p:nvPr/>
        </p:nvSpPr>
        <p:spPr>
          <a:xfrm>
            <a:off x="2209680" y="3124080"/>
            <a:ext cx="213372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76320" y="4435560"/>
            <a:ext cx="205740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reeform 8"/>
          <p:cNvSpPr/>
          <p:nvPr/>
        </p:nvSpPr>
        <p:spPr>
          <a:xfrm>
            <a:off x="304920" y="3444840"/>
            <a:ext cx="3886200" cy="1828800"/>
          </a:xfrm>
          <a:custGeom>
            <a:avLst/>
            <a:gdLst/>
            <a:ahLst/>
            <a:rect l="l" t="t" r="r" b="b"/>
            <a:pathLst>
              <a:path w="2448" h="1152">
                <a:moveTo>
                  <a:pt x="0" y="1152"/>
                </a:moveTo>
                <a:lnTo>
                  <a:pt x="720" y="1152"/>
                </a:lnTo>
                <a:lnTo>
                  <a:pt x="1680" y="0"/>
                </a:lnTo>
                <a:lnTo>
                  <a:pt x="24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228600" y="5883120"/>
            <a:ext cx="4191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30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 vs. Soft Limi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0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0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0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4" descr="se04F31"/>
          <p:cNvPicPr/>
          <p:nvPr/>
        </p:nvPicPr>
        <p:blipFill>
          <a:blip r:embed="rId1"/>
          <a:stretch/>
        </p:blipFill>
        <p:spPr>
          <a:xfrm>
            <a:off x="2819520" y="228600"/>
            <a:ext cx="6095880" cy="595620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2"/>
          <p:cNvSpPr/>
          <p:nvPr/>
        </p:nvSpPr>
        <p:spPr>
          <a:xfrm>
            <a:off x="1747080" y="6248520"/>
            <a:ext cx="56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3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riety of basic limiting circu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152280" y="152280"/>
            <a:ext cx="2286000" cy="114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single limiters employ one dio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152280" y="1371600"/>
            <a:ext cx="2286000" cy="149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double limiters employ two diodes of opposite polarit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152280" y="2971800"/>
            <a:ext cx="2286000" cy="149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linear range may be controlled via string of diodes and dc sourc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152280" y="4572000"/>
            <a:ext cx="2286000" cy="149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zener diodes may  be used to implement soft limit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Line 11"/>
          <p:cNvSpPr/>
          <p:nvPr/>
        </p:nvSpPr>
        <p:spPr>
          <a:xfrm>
            <a:off x="2514600" y="685800"/>
            <a:ext cx="9144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Line 12"/>
          <p:cNvSpPr/>
          <p:nvPr/>
        </p:nvSpPr>
        <p:spPr>
          <a:xfrm>
            <a:off x="2590920" y="2057400"/>
            <a:ext cx="8380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Line 13"/>
          <p:cNvSpPr/>
          <p:nvPr/>
        </p:nvSpPr>
        <p:spPr>
          <a:xfrm flipV="1">
            <a:off x="2590920" y="3352320"/>
            <a:ext cx="434340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Line 14"/>
          <p:cNvSpPr/>
          <p:nvPr/>
        </p:nvSpPr>
        <p:spPr>
          <a:xfrm>
            <a:off x="2514600" y="52578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0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5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8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2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0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5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5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5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5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2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lamped Capacitor or DC Restor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533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c restor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it whic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moves the dc compon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n AC w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is this ability importa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value of this output (w/ dc = 0) is effective way to measure duty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1"/>
          <a:stretch/>
        </p:blipFill>
        <p:spPr>
          <a:xfrm>
            <a:off x="5925960" y="152280"/>
            <a:ext cx="2760840" cy="4832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23" name="Rectangle 2"/>
          <p:cNvSpPr/>
          <p:nvPr/>
        </p:nvSpPr>
        <p:spPr>
          <a:xfrm>
            <a:off x="5486400" y="5029200"/>
            <a:ext cx="343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3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mped capacitor or dc restorer with a square-wave input and no l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.3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Voltage Doubl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voltage doubl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whic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ultiplies the amplitude of a wa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signal by tw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09800" y="2057400"/>
            <a:ext cx="430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8" name="Picture 5" descr=""/>
          <p:cNvPicPr/>
          <p:nvPr/>
        </p:nvPicPr>
        <p:blipFill>
          <a:blip r:embed="rId1"/>
          <a:stretch/>
        </p:blipFill>
        <p:spPr>
          <a:xfrm>
            <a:off x="4619520" y="1528920"/>
            <a:ext cx="4295880" cy="395748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2"/>
          <p:cNvSpPr/>
          <p:nvPr/>
        </p:nvSpPr>
        <p:spPr>
          <a:xfrm>
            <a:off x="4648320" y="5486400"/>
            <a:ext cx="4343400" cy="12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4.34: 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tage doubler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veform of the voltage acros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 the forward direction, the ideal diode conducts any current forced by the external circuit while displaying a zero-voltage drop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he ideal diode does not conduct in reverse direction; any applied voltage appears as reverse bias across the di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nidirectional current flow property makes the diode useful in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sign of rectifier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rward conduction of practical silicon-junction diodes is accuratel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aracterized by the relationship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V/V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silicon diode conducts a negligible current until the forward voltage is at least 0.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n, the current increases rapidly with the voltage drop increasing by 60mV for every decade of current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 the reverse direction, a silicon diode conducts a current on the order of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-9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his current is much greater th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ncreases with the magnitude of reverse vol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yond a certain value of reverse voltage (that depends on the diode itself)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reakdown occu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urrent increases rapidly with a small corresponding increase in vol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odes designed to operate in the breakdown region are called zener diode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hey are employed in the design of voltage regulators whose function is to provide a constant dc voltage that varies little with variations in power supply voltage and / or load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 many applications, a conducting diode is modeled as having a constant voltage dro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usually with value of approximately 0.7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iode biased to operate at a dc curr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ll signal resistan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tifiers covert ac voltage into unipolar voltages.  Half-wave rectifiers do this by passing the voltage in half of each cycle and blocking the opposite-polarity voltage in the other half of the cyc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ridge-rectifier circuit is the preferr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ull-wave rectifier configu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variation of the output waveform of the rectifier is reduced considerably by connecting a capacitor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cross the output load resistan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he resulting circuit is the peak rectifier.  The output waveform then consists of a dc voltage almost equal to the peak of the input sine wave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n which is superimposed a ripple component of frequency 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in the full-wave case) and of peak-to-peak amplitud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R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bination of diodes, resistors, and possible reference voltage can be used to design voltage limi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prevent one or both extremities of the output waveform from going beyond predetermined values – the limiting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ing a time-varying waveform to a circuit consisting of a capacitor in series with a diode and taking the output across the diod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vides a clamping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ascading a clamping circuit with a peak-rectifier circuit,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oltage doubler is real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5-30T17:38:28Z</dcterms:modified>
  <cp:revision>392</cp:revision>
  <dc:subject/>
  <dc:title>Slide 1</dc:title>
</cp:coreProperties>
</file>